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05E-05F7-49E3-94D0-7F3D79BC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592-D117-4D89-922F-7702F56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F65-3497-4ED7-8AC4-9FBCD4D8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96C-8CC0-4E17-9E18-B70C4EC7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9E9-182A-4F8B-A5BA-70125338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9324-7608-498D-B982-C5AC9E8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6E97-713F-48E0-8676-BB6B73D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7DE5-638C-4D17-9CB1-092E7F49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5B3-95F8-4F15-9D5C-C31DCF8A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FE46-2506-4539-8244-412749B8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F9E9-C7D4-4B7D-B154-E7FC29C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3DF-1CAC-4C2A-9560-189997A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9058-DE9A-4B12-9FD3-B32EE39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B3D6-6C37-420F-8461-00E450C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CDC-A511-49DB-B784-7425D735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446-F505-4887-A7F3-061B5AA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6D0-3045-4AB8-AD81-AC9B45DC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32F-B0BF-47AD-A40D-A756A26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14A-E5ED-4EDB-A202-A824285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A1B-F781-47FB-9619-B606CECF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67D-0CB3-4F11-8728-8C7092B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EFB-AF80-40A8-9730-4B4D5DA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051-5477-4317-AFC0-0D1C8CC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919-52F4-4CE6-8DA2-A09F528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07A-9EFA-4048-9FC9-02DAF0E8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003-5C40-42E8-BE49-45D97338B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457200" y="1351080"/>
          <a:ext cx="8080200" cy="48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51080"/>
                    <a:ext cx="80802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533520" y="1295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14600" y="12952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9440" y="1379520"/>
            <a:ext cx="129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7560" y="129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265160" y="1447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ngle Relationship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990720" y="2362320"/>
            <a:ext cx="739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an inscribed angle intercepts the diameter of a circle, then what is the measure of the an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817080" y="2514600"/>
            <a:ext cx="12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533520" y="1828800"/>
            <a:ext cx="746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the equation of a circle whose center is at (3, 5) and radius is 9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304920" y="2133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(x – 3)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 + (y – 5)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=8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80880" y="12952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the equation of a circle whose center is at (5, -9) and radius is 12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80880" y="2133720"/>
            <a:ext cx="862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(x – 5)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+ (y + 9)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= 14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0" y="1371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ere does the point (2, 3) lie in relation to the circle centered at (3, -4) with a radius of 9 un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3716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On the interior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066680" y="1905120"/>
            <a:ext cx="678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w do you find the scale factor between two circles, </a:t>
            </a:r>
            <a:r>
              <a:rPr b="0" lang="en-US" sz="6000" spc="-1" strike="noStrike">
                <a:solidFill>
                  <a:srgbClr val="ffffff"/>
                </a:solidFill>
                <a:latin typeface="Cambria Math"/>
                <a:ea typeface="Cambria Math"/>
              </a:rPr>
              <a:t>ʘA and ʘB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80880" y="2133720"/>
            <a:ext cx="8850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us 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ʘA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Circumference ʘ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------------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or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---------------------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Radius ʘB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Circumference ʘ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What does this tell u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93200" y="152388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sure of angleL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2427120" y="2362320"/>
            <a:ext cx="460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80880" y="20574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es the point (0,5) lie in relation to the circle centered at the origin and containing the point (3,4)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28600" y="198108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 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5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5 = 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67080" y="19810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=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 5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?=?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5 ?=?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teri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Straight Arrow Connector 9"/>
          <p:cNvCxnSpPr/>
          <p:nvPr/>
        </p:nvCxnSpPr>
        <p:spPr>
          <a:xfrm flipV="1">
            <a:off x="2362320" y="2819160"/>
            <a:ext cx="1829520" cy="30484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066680" y="198108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M is the _______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903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09" name="Text Box 4" descr=""/>
          <p:cNvPicPr/>
          <p:nvPr/>
        </p:nvPicPr>
        <p:blipFill>
          <a:blip r:embed="rId2"/>
          <a:stretch/>
        </p:blipFill>
        <p:spPr>
          <a:xfrm>
            <a:off x="1596960" y="1719360"/>
            <a:ext cx="5724720" cy="120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7339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591000" cy="3574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1066680" y="205740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ne segment LM is a ______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609480" y="1981080"/>
            <a:ext cx="4496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segment LM is a radius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5108400" y="1905120"/>
            <a:ext cx="3673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28616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304920" y="1066680"/>
            <a:ext cx="373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ne Segment LO is a _________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4486320" y="1066680"/>
            <a:ext cx="4438440" cy="4419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838080" y="1295280"/>
            <a:ext cx="350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segment LO is a chord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27520" cy="3809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609480" y="19051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ne ON is a __________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990720" y="1981080"/>
            <a:ext cx="48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ne ON is a secant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5415120" y="1905120"/>
            <a:ext cx="33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889280" y="2133720"/>
            <a:ext cx="428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5.01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838080" y="1981080"/>
            <a:ext cx="32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j is a _______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819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838080" y="17524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ne j is a tangent line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5014800" y="1828800"/>
            <a:ext cx="3614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1676520"/>
            <a:ext cx="365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ind the area of the shaded regio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086440" y="1195560"/>
            <a:ext cx="40575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533520" y="2133720"/>
            <a:ext cx="426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.865 square cm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7339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0880" y="129528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area of the shaded reg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3902040" y="1143000"/>
            <a:ext cx="4946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457200" y="17524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.944 square cm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47242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90512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area of a sector that is created by a diameter if the circumference of the circle is 18 fee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1752480"/>
            <a:ext cx="716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 = 9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≈ 2.86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A = (180/360)[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x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9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= 4.5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t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≈ 44.413 f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762120" y="114300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area of a sector is 16 square meters and the angle is 2 radians. what is the measure of the radiu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2758680" y="2362320"/>
            <a:ext cx="304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4 met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28600" y="175248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measure of angleLM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3505320" y="1371600"/>
            <a:ext cx="56386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457200" y="114300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The Area of ʘB is 100</a:t>
            </a:r>
            <a:r>
              <a:rPr b="0" lang="el-GR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π</a:t>
            </a:r>
            <a:r>
              <a:rPr b="0" lang="en-US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 sq. cm. If a piece of the circle has been taken out so that the length of the arc taken is 16 cm, what the area of the sector taken out of the whol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28440" y="1371600"/>
            <a:ext cx="491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= 80 sq. c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295280" y="190512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quadrilateral can be inscribed in a circle iff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1889280" y="2438280"/>
            <a:ext cx="60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opposite angles are supplementa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1371600" y="17524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formula for the area of a sector if you are given the degree measur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862200" y="1447920"/>
            <a:ext cx="565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= (n/360)(</a:t>
            </a:r>
            <a:r>
              <a:rPr b="0" lang="el-GR" sz="66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2057400" y="121932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formula for finding the radian measure of a circ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152280" y="990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Math"/>
                <a:ea typeface="Cambria Math"/>
              </a:rPr>
              <a:t>Number of Radians = Arc Length/Radi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676520" y="22096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many radians are there in 360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3664080" y="2133720"/>
            <a:ext cx="10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7200" spc="-1" strike="noStrike">
                <a:solidFill>
                  <a:srgbClr val="ffffff"/>
                </a:solidFill>
                <a:latin typeface="Times New Roman"/>
              </a:rPr>
              <a:t>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0" y="18288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44.80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3657600" y="2048040"/>
            <a:ext cx="49719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981080" y="2133720"/>
            <a:ext cx="624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escribe each step in drawing the circumscribed circle for a triangl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99072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perpendicular bisector for at least two sides of the triang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circumcenter (the point where they meet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circle with the circumcenter as the center and the radius extends to at least one of the verti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2280" y="24382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ere did Ms. Schaefer go to college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783800" y="2514600"/>
            <a:ext cx="64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ickinson Colleg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0" y="205740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dentify th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asure of angleLM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3429000" y="1447920"/>
            <a:ext cx="5715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19680" y="1981080"/>
            <a:ext cx="282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56.15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886200" y="1882800"/>
            <a:ext cx="525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0" y="22860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at is the measu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angleLON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4081320" y="2043000"/>
            <a:ext cx="50626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609480" y="23623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01.925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3"/>
          <a:stretch/>
        </p:blipFill>
        <p:spPr>
          <a:xfrm>
            <a:off x="4081320" y="2043000"/>
            <a:ext cx="50626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.</cp:lastModifiedBy>
  <dcterms:modified xsi:type="dcterms:W3CDTF">2014-04-23T11:46:57Z</dcterms:modified>
  <cp:revision>52</cp:revision>
  <dc:subject/>
  <dc:title>Jeopardy</dc:title>
</cp:coreProperties>
</file>